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8F4-2A1B-4CB0-8154-CFD1AA19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9A4-B3F6-432D-BD9D-7C4769CC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6A7-9ACB-42C8-873B-50DDE04D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D40-ACEA-42D7-8164-E3E0615F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01C7-349F-4891-A4E3-9A4BBB8C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B054-802C-4E3D-81FE-FC4202B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5D8A-D60F-4A66-AB26-9011ABA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5C35-084A-434B-A2F2-0AF2FD58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50C4-3A5C-4525-85DD-9BC45BD5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0926-09A1-418F-AD25-5EB0A45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A7F5-C9F3-4814-8BBA-33D7759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94E-4B07-4C0B-B041-22B94FC7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DA5A-B4CD-424C-80D9-017C6A1D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3C5A-60D7-40B1-9247-D293B15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35D2-BB2B-4765-BA31-AE1C6D7E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538B-BA07-4B81-A570-B9E12038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4927-D072-4D7E-9E80-E761CE57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398B-18CF-4EEC-9A5C-29ECF144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159F-07A6-4E73-B2DF-268DE884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AF44-2007-4278-99CA-ADF8394D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6824-46EC-4B31-BD4C-029B372A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5B7D-5948-4035-A34F-F19B8DC1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CC7-06BD-484B-803A-BCEE74B5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6647-8154-4518-B272-76067678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99FC-711E-4682-A4FE-1364F3BB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AB17-5A29-4990-B1FA-DEF9219B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5717-C643-4126-9164-76028938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3672-5805-4DD5-8083-F3380032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A66F-5C5B-4E7F-B047-ED5638A7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4F5A-597C-447C-A163-94220957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24DA-B207-427A-92FA-4A9A3DBC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A059-25A1-493F-B778-06B08923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2766-E927-4ABA-8862-FBFBF6C8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F7C-9D71-4C9F-961C-9F92245D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38ED-A366-4850-AF22-30D1BE1D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AE84-B6DE-425D-9BA5-C16149EA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1E31-6424-4221-83B6-9EC1F62E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CFEA-FCF0-4439-A7DD-CF2ED6F4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E2C2-5B20-4171-B585-61D3F83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0E8F-C5A1-4ECE-8E3B-A528BD9C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1671-7651-412F-BA78-28ED6B58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80F4-EF5F-4C92-8E97-8CA5D420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3FC6-5766-4EED-BC04-28AA2692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372C3-7F18-402F-AF37-9B2680BC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044-4270-4C41-8043-2541607B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FFBC-2899-4EE9-9018-6B910F9F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398D8-EC9C-4E58-AC5C-780996F5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82CD6-34D7-4BBB-8874-892CC1B4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8AF1-1DE9-43F7-AE11-5ABDD60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6E2F4-D166-43C5-AA3D-1A4B007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A5DC-1943-48E1-AFD4-AEB6FB98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D40A7-A961-4A81-9138-BEA01D99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6C0B-4B50-4E61-9C2F-978A51B3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DAD48-3F75-420D-9E5E-7D67C674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9BC4D-1F07-4A89-A93C-CF4CB680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E4A-94F7-4D69-8D63-EF69D645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492CB-9BDB-438C-8201-52C36769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C22-363D-42EF-9401-324D00B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B8A-6B6C-4024-BB49-74403BAC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1A3-F28A-45E4-A474-F522462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9694-440B-4BA1-8EC5-7E2AE109CF6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554E-B737-490D-9B72-55BA50BBD6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A41C-5CAE-416C-8E78-F0DA9DD1B78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26F4-8E14-4AEF-8E2B-51C1EDCCB3E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84A8-F586-40A7-AFCD-62F115C2331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Verdana"/>
              </a:rPr>
              <a:t>Seasons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28760" y="17856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spring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summer        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autumn        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winte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brigh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142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Autumn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[’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о: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t∂m]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 осен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Winter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 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[’wint∂]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  зи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Bright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  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[’bra</a:t>
            </a:r>
            <a:r>
              <a:rPr b="1" lang="en-US" sz="2200" spc="-1" strike="noStrike">
                <a:solidFill>
                  <a:srgbClr val="771f28"/>
                </a:solidFill>
                <a:latin typeface="Verdana"/>
              </a:rPr>
              <a:t>l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t ]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  ярк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Season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[’s</a:t>
            </a:r>
            <a:r>
              <a:rPr b="1" lang="en-US" sz="2200" spc="-1" strike="noStrike">
                <a:solidFill>
                  <a:srgbClr val="771f28"/>
                </a:solidFill>
                <a:latin typeface="Verdana"/>
              </a:rPr>
              <a:t>l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: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z∂n]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  время год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Spring 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[’spriŋ]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   вес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Summer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[’s</a:t>
            </a:r>
            <a:r>
              <a:rPr b="1" lang="en-US" sz="5600" spc="-1" strike="noStrike" baseline="-25000">
                <a:solidFill>
                  <a:srgbClr val="771f28"/>
                </a:solidFill>
                <a:latin typeface="Verdana"/>
              </a:rPr>
              <a:t>^</a:t>
            </a:r>
            <a:r>
              <a:rPr b="1" lang="en-US" sz="3000" spc="-1" strike="noStrike">
                <a:solidFill>
                  <a:srgbClr val="771f28"/>
                </a:solidFill>
                <a:latin typeface="Verdana"/>
              </a:rPr>
              <a:t>m∂]</a:t>
            </a:r>
            <a:r>
              <a:rPr b="1" lang="ru-RU" sz="3000" spc="-1" strike="noStrike">
                <a:solidFill>
                  <a:srgbClr val="771f28"/>
                </a:solidFill>
                <a:latin typeface="Verdana"/>
              </a:rPr>
              <a:t>       ле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Picture 2" descr="F:\Новая папка\DSC02025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64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F:\Новая папка\IMG_0078.jpg"/>
          <p:cNvPicPr/>
          <p:nvPr/>
        </p:nvPicPr>
        <p:blipFill>
          <a:blip r:embed="rId2"/>
          <a:stretch/>
        </p:blipFill>
        <p:spPr>
          <a:xfrm>
            <a:off x="5072040" y="428760"/>
            <a:ext cx="3679920" cy="2759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F:\Новая папка\P1020839.JPG"/>
          <p:cNvPicPr/>
          <p:nvPr/>
        </p:nvPicPr>
        <p:blipFill>
          <a:blip r:embed="rId3"/>
          <a:stretch/>
        </p:blipFill>
        <p:spPr>
          <a:xfrm>
            <a:off x="428760" y="3071880"/>
            <a:ext cx="3857400" cy="2857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F:\Новая папка\P1040527.JPG"/>
          <p:cNvPicPr/>
          <p:nvPr/>
        </p:nvPicPr>
        <p:blipFill>
          <a:blip r:embed="rId4"/>
          <a:stretch/>
        </p:blipFill>
        <p:spPr>
          <a:xfrm>
            <a:off x="5072040" y="314316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Verdana"/>
              </a:rPr>
              <a:t>Задание 1</a:t>
            </a:r>
            <a:br>
              <a:rPr sz="3200"/>
            </a:b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85840" y="1071720"/>
          <a:ext cx="8501040" cy="493704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Sp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[’spriŋ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ве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Sum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[’s</a:t>
                      </a:r>
                      <a:r>
                        <a:rPr b="1" lang="en-US" sz="4000" spc="-1" strike="noStrike" baseline="-25000">
                          <a:solidFill>
                            <a:srgbClr val="3b6431"/>
                          </a:solidFill>
                          <a:latin typeface="Verdana"/>
                        </a:rPr>
                        <a:t>^</a:t>
                      </a: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m∂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ле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Wi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[’wint∂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з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Autu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[’</a:t>
                      </a:r>
                      <a:r>
                        <a:rPr b="1" lang="ru-RU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о:</a:t>
                      </a: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t∂m]</a:t>
                      </a:r>
                      <a:r>
                        <a:rPr b="1" lang="ru-RU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ос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[’sl</a:t>
                      </a:r>
                      <a:r>
                        <a:rPr b="1" lang="ru-RU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:</a:t>
                      </a: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z∂n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время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B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[’bralt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b6431"/>
                          </a:solidFill>
                          <a:latin typeface="Verdana"/>
                        </a:rPr>
                        <a:t>яр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Verdana"/>
              </a:rPr>
              <a:t>Задание 2</a:t>
            </a:r>
            <a:br>
              <a:rPr sz="4400"/>
            </a:b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8760" y="1856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right/winter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ason/autumn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ing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mmer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2" descr="F:\Новая папка\DSC02025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6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F:\Новая папка\IMG_0078.jpg"/>
          <p:cNvPicPr/>
          <p:nvPr/>
        </p:nvPicPr>
        <p:blipFill>
          <a:blip r:embed="rId2"/>
          <a:stretch/>
        </p:blipFill>
        <p:spPr>
          <a:xfrm>
            <a:off x="5072040" y="428760"/>
            <a:ext cx="3679920" cy="275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F:\Новая папка\P1020839.JPG"/>
          <p:cNvPicPr/>
          <p:nvPr/>
        </p:nvPicPr>
        <p:blipFill>
          <a:blip r:embed="rId3"/>
          <a:stretch/>
        </p:blipFill>
        <p:spPr>
          <a:xfrm>
            <a:off x="428760" y="3071880"/>
            <a:ext cx="3857400" cy="2857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F:\Новая папка\P1040527.JPG"/>
          <p:cNvPicPr/>
          <p:nvPr/>
        </p:nvPicPr>
        <p:blipFill>
          <a:blip r:embed="rId4"/>
          <a:stretch/>
        </p:blipFill>
        <p:spPr>
          <a:xfrm>
            <a:off x="5072040" y="314316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8:10:10Z</dcterms:created>
  <dc:creator>Учитель</dc:creator>
  <dc:description/>
  <dc:language>en-US</dc:language>
  <cp:lastModifiedBy>Светлана Александровна</cp:lastModifiedBy>
  <dcterms:modified xsi:type="dcterms:W3CDTF">2011-01-18T14:19:38Z</dcterms:modified>
  <cp:revision>44</cp:revision>
  <dc:subject/>
  <dc:title>Seasons</dc:title>
</cp:coreProperties>
</file>